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5D0D-BAA2-413C-B44F-1D2D79C6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D369-658F-4CB3-8FF1-F7C05DDA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98B-A117-4986-A8D4-39A0F6EB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9DF-EDD6-4AF3-8A9E-100DAAD0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399B-2FA1-4AFE-8E8D-76E009B7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B592-A2DA-4950-B9C1-8B2FD01E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6D33-D1EE-46FC-A31A-1F613E8B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ECAF-029F-40B6-80C7-93E8BFEE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A4BF-2C9B-412E-9F0D-04B54A69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5817-4D44-411D-A5D9-325DC4D9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1CB4-67FE-4A38-9E48-46FBC3D2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3C7-DBB2-4289-90CF-961E0594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CBC1-6788-4BA4-8C76-9E772969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8AB4-B9CC-400E-8A42-8CB7B98B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FB62-3219-4B1E-8E6F-049180A8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2B0C-C960-467E-9E87-C700330A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0E20-EF45-4588-9B00-F4240A6F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D1FB-321C-4E04-BA14-3399CB4B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4B57-0C77-42DC-8729-B055E876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FF0-0FA6-4E30-83EA-C94F8E46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0498-1604-4195-94F4-81A4252B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BD7A-8878-4FDD-B7D1-6C9A94BD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B3B-B816-4615-83F7-4812B8EA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655-210D-4BD0-91BD-96BEECFC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6d776e"/>
                </a:gs>
                <a:gs pos="5000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39ea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d894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DE32-1AE9-4F73-92D4-37459CBEC1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6d776e"/>
                </a:gs>
                <a:gs pos="5000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79BE-682B-4A81-B4A4-674D7B18C9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39ea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d894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25892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English111 Vivace BT"/>
              </a:rPr>
              <a:t>Restauran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English111 Vivace BT"/>
              </a:rPr>
              <a:t>“</a:t>
            </a:r>
            <a:r>
              <a:rPr b="1" i="1" lang="fr-FR" sz="5400" spc="-1" strike="noStrike">
                <a:solidFill>
                  <a:srgbClr val="ffffff"/>
                </a:solidFill>
                <a:latin typeface="English111 Vivace BT"/>
              </a:rPr>
              <a:t>Château d’Avignon </a:t>
            </a:r>
            <a:r>
              <a:rPr b="1" lang="es-ES" sz="5400" spc="-1" strike="noStrike">
                <a:solidFill>
                  <a:srgbClr val="ffffff"/>
                </a:solidFill>
                <a:latin typeface="English111 Vivace BT"/>
              </a:rPr>
              <a:t> “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346560" y="549360"/>
            <a:ext cx="261468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dddddd"/>
                </a:solidFill>
                <a:latin typeface="English111 Vivace BT"/>
              </a:rPr>
              <a:t>Concept</a:t>
            </a:r>
            <a:endParaRPr b="0" lang="en-US" sz="8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hic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pécialités français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Vins régionaux que se marient parfaitement avec cette cuisine inspiré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Offre des prestations d'un haut niveau, vue exceptionnelle et qualité de service d'un autre tem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180 couvert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lients de l'hôtel et exter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ieu de rencontre pour les artistes et les entrepreneu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dddddd"/>
                </a:solidFill>
                <a:latin typeface="English111 Vivace BT"/>
              </a:rPr>
              <a:t>Décoration</a:t>
            </a:r>
            <a:r>
              <a:rPr b="0" lang="es-ES" sz="8800" spc="-1" strike="noStrike">
                <a:solidFill>
                  <a:srgbClr val="dddddd"/>
                </a:solidFill>
                <a:latin typeface="English111 Vivace BT"/>
              </a:rPr>
              <a:t> et Musique</a:t>
            </a:r>
            <a:endParaRPr b="0" lang="en-US" sz="8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rès travaillé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Bâtisse ancien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Couleurs apaisan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nvironnement cal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Atmosphère de début du XXe siècl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Musique liv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présentations de pianistes et chanteurs conn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ahoma"/>
              </a:rPr>
              <a:t>Heures du restaurant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undi à vendredi : 7:00 à 23: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Samedi et Dimanche: 8:00 à 24:00 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Cartes de crédit accepté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Ouvert toute l'anné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ddddd"/>
                </a:solidFill>
                <a:latin typeface="English111 Vivace BT"/>
              </a:rPr>
              <a:t>Carte</a:t>
            </a:r>
            <a:endParaRPr b="0" lang="en-US" sz="88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1349280"/>
            <a:ext cx="8353440" cy="543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ddddd"/>
                </a:solidFill>
                <a:latin typeface="English111 Vivace BT"/>
              </a:rPr>
              <a:t>Interview: Chef Eric Frechon</a:t>
            </a:r>
            <a:endParaRPr b="0" lang="en-US" sz="66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3280" y="915840"/>
            <a:ext cx="4219560" cy="5969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4205160" cy="5950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dddddd"/>
                </a:solidFill>
                <a:latin typeface="English111 Vivace BT"/>
              </a:rPr>
              <a:t>Recette:</a:t>
            </a:r>
            <a:r>
              <a:rPr b="0" lang="fr-FR" sz="4400" spc="-1" strike="noStrike">
                <a:solidFill>
                  <a:srgbClr val="dddddd"/>
                </a:solidFill>
                <a:latin typeface="English111 Vivace BT"/>
              </a:rPr>
              <a:t> “Mousse Rouzanna au Chocolat Noir”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rot="20901000">
            <a:off x="395280" y="2491920"/>
            <a:ext cx="5477040" cy="3648240"/>
          </a:xfrm>
          <a:prstGeom prst="rect">
            <a:avLst/>
          </a:prstGeom>
          <a:ln w="28440">
            <a:solidFill>
              <a:srgbClr val="130e07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5940360" y="1916280"/>
            <a:ext cx="2879640" cy="490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Tahoma"/>
              </a:rPr>
              <a:t>*Pour 4 personnes 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English111 Vivace BT"/>
              </a:rPr>
              <a:t>F</a:t>
            </a:r>
            <a:r>
              <a:rPr b="0" lang="fr-FR" sz="1600" spc="-1" strike="noStrike">
                <a:solidFill>
                  <a:srgbClr val="5f5f5f"/>
                </a:solidFill>
                <a:latin typeface="Tahoma"/>
              </a:rPr>
              <a:t>ouettez longuement 12 jaunes d’œufs et versez-y 250 g de chocolat noir fondu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English111 Vivace BT"/>
              </a:rPr>
              <a:t>I</a:t>
            </a:r>
            <a:r>
              <a:rPr b="0" lang="fr-FR" sz="1600" spc="-1" strike="noStrike">
                <a:solidFill>
                  <a:srgbClr val="5f5f5f"/>
                </a:solidFill>
                <a:latin typeface="Tahoma"/>
              </a:rPr>
              <a:t>ncorporez délicatement à la spatule 12 blancs d’œufs en neige bien ferm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English111 Vivace BT"/>
              </a:rPr>
              <a:t>T</a:t>
            </a:r>
            <a:r>
              <a:rPr b="0" lang="fr-FR" sz="1600" spc="-1" strike="noStrike">
                <a:solidFill>
                  <a:srgbClr val="5f5f5f"/>
                </a:solidFill>
                <a:latin typeface="Tahoma"/>
              </a:rPr>
              <a:t>erminez en glissant dans la mousse des coupeaux de chocolat réalisés avec un couteau économ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English111 Vivace BT"/>
              </a:rPr>
              <a:t>L</a:t>
            </a:r>
            <a:r>
              <a:rPr b="0" lang="fr-FR" sz="1600" spc="-1" strike="noStrike">
                <a:solidFill>
                  <a:srgbClr val="5f5f5f"/>
                </a:solidFill>
                <a:latin typeface="Tahoma"/>
              </a:rPr>
              <a:t>aissez la mousse prendre une nuit au réfrigérateur avant de la servi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6:48:31Z</dcterms:created>
  <dc:creator>Usuario</dc:creator>
  <dc:description/>
  <dc:language>en-US</dc:language>
  <cp:lastModifiedBy>Usuario</cp:lastModifiedBy>
  <dcterms:modified xsi:type="dcterms:W3CDTF">2011-05-12T17:57:44Z</dcterms:modified>
  <cp:revision>4</cp:revision>
  <dc:subject/>
  <dc:title>Diapositiva 1</dc:title>
</cp:coreProperties>
</file>